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ED2-FA6C-43F3-99ED-9361D355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1B3-F2E6-4F93-AB3F-C4D6862F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44F-A39C-446C-912D-515EF1A9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F0B-9504-42D3-B49A-BD13862B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EF5-1409-4ADC-933E-D6EEAC42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4BB-FF09-4DF3-A463-363256D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D34-B8D0-4BF0-B14D-72E5932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841-B425-489E-8BA0-3DE0687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DCD-1866-447B-AFCD-16EBE628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65B-636D-4622-A56D-2CB8DA0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148-C8B6-4357-8295-A4558D2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46B-9C32-4113-8FDE-85DD9D3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2310-CB14-4918-AE68-5CDF465A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6255000" cy="777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2361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ل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ثل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بال، وأحكام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مرٌ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ظيم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-1523880"/>
            <a:ext cx="7421400" cy="921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هم ما أثمن محبتك، إن بني البشر بظل جناحيك يعتصمون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90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رتوون من فيض بيتك لأن عندك ينبوع الحياة وبنورك نعاين النور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6:27:58Z</dcterms:created>
  <dc:creator>SUZANNE.MD</dc:creator>
  <dc:description/>
  <dc:language>en-US</dc:language>
  <cp:lastModifiedBy>HANI SAFI</cp:lastModifiedBy>
  <dcterms:modified xsi:type="dcterms:W3CDTF">2003-04-17T11:02:19Z</dcterms:modified>
  <cp:revision>2</cp:revision>
  <dc:subject/>
  <dc:title>PowerPoint Presentation</dc:title>
</cp:coreProperties>
</file>